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C86-8036-4456-B7CA-75B67A72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D21-F512-4199-9860-A953109A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03D-649F-45A1-B230-7236208A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E3E-DAAB-44B4-AB7F-199ABB5C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9C9-087C-4CF6-B848-A399C56E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703-30AB-4119-8CE0-90FBDB56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39E-B053-4FB6-8172-606F315E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020-7151-4F1B-8BE7-73B036AA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7EA-9F3B-4760-9EEF-DBFB66C2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873-3A64-4982-8038-CF1537EA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0E4-B322-4243-B973-F1127FB2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A78-56A3-494E-8E71-0ECD1529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5487-7595-430F-89F3-5D929A535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АНАЛИЗ ОСТАТОЧНЫХ СКОРОСТЕЙ ГАЛАКТИЧЕСКИХ МАЗЕРОВ НА ОСНОВЕ МЕТОДА МАКСИМАЛЬНОЙ ЭНТРО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716280"/>
            <a:ext cx="6400800" cy="26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ниса Бай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лковская Обсерв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858000"/>
            <a:ext cx="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03280" y="9079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Делая замену пе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87640" y="1628640"/>
                <a:ext cx="41767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476360" y="2997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ридем к обычному  преобразованию Фурье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08000" y="4221000"/>
                <a:ext cx="54007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9640" y="2781360"/>
                <a:ext cx="8353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j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84360" y="76500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оотношение между неизвестными отсчетами спектра и измеренными скоростями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Обобщенный метод максимальной энтро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26920" y="692280"/>
                <a:ext cx="7848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+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−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+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−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</m:t>
                                    </m:r>
                                  </m:sup>
                                </m:sSub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m</m:t>
                                    </m:r>
                                  </m:sup>
                                </m:sSub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11280" y="371628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ри ограничениях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95476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4365720"/>
                <a:ext cx="7993080" cy="23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e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e</m:t>
                                        </m:r>
                                        <m:r>
                                          <m:t xml:space="preserve">−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m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m</m:t>
                                        </m:r>
                                        <m:r>
                                          <m:t xml:space="preserve">−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jη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оделирование восстановления периодического сигнал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о радиальным  и тангенциальным скорос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876760" cy="2876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76720" y="2060640"/>
            <a:ext cx="2876760" cy="287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174276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иальны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кор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точные тангенциальны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кор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4941720"/>
            <a:ext cx="612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, kp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, k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0760" y="1289160"/>
            <a:ext cx="78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одел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m=2, 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2.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pc, fR=-8 km/c, f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8  km/c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χ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0 deg, s/n=5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2895840" cy="2876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2886120" cy="287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11556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иодограмма Шусте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МЭ-спек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7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3068640"/>
            <a:ext cx="58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λ, kpc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λ, kp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3029040" cy="2876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3009960" cy="287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6237360"/>
            <a:ext cx="63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n(R/R0)R0, kp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n(R/R0)R0, k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649116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зультат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2.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pc, fR=-7.5 km/c, f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7.5  km/c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χ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10 d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r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2867040" cy="2886120"/>
          </a:xfrm>
          <a:prstGeom prst="rect">
            <a:avLst/>
          </a:prstGeom>
          <a:ln w="0">
            <a:noFill/>
          </a:ln>
        </p:spPr>
      </p:pic>
      <p:pic>
        <p:nvPicPr>
          <p:cNvPr id="122" name="scale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2876760" cy="2876760"/>
          </a:xfrm>
          <a:prstGeom prst="rect">
            <a:avLst/>
          </a:prstGeom>
          <a:ln w="0">
            <a:noFill/>
          </a:ln>
        </p:spPr>
      </p:pic>
      <p:pic>
        <p:nvPicPr>
          <p:cNvPr id="123" name="imr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2867040" cy="2876760"/>
          </a:xfrm>
          <a:prstGeom prst="rect">
            <a:avLst/>
          </a:prstGeom>
          <a:ln w="0">
            <a:noFill/>
          </a:ln>
        </p:spPr>
      </p:pic>
      <p:pic>
        <p:nvPicPr>
          <p:cNvPr id="124" name="scale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857680" cy="2876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-34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03360" y="-54036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137400"/>
            <a:ext cx="867564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n(R/R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R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kpc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чительный шум в данны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λ, kpc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08480" y="6431400"/>
            <a:ext cx="7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6428160"/>
            <a:ext cx="676728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n(R/R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R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kpc                                                                                                 λ, kpc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108000" y="0"/>
            <a:ext cx="92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Моделирование ММЭ-восстановления периодического сигнала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по рад.скоро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54936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езначительный шум в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96000" y="54936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332000" y="37162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724360" y="3716280"/>
            <a:ext cx="2886120" cy="2886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65440" y="11390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5440" y="-18324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3499200"/>
            <a:ext cx="77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риодограмма Шустер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ММЭ-спек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94720" y="684936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5791320"/>
            <a:ext cx="54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λ, kpc                                                                      λ, k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06800" y="333360"/>
            <a:ext cx="29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335772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λ, kpc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, k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04640"/>
            <a:ext cx="73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ный спектр  мощности                                          Ряд измерений скор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6583320"/>
            <a:ext cx="66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λ, kpc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λ, kp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Моделирование восстановления спектра полигармонического сигн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Моделирование задачи определения параметров спиральной волны плотности 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по радиальным скоростям 73 мазер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2882880" cy="2876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987640" y="2133720"/>
            <a:ext cx="2886120" cy="2877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880000" cy="2879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58920" y="4797360"/>
            <a:ext cx="69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, kpc                                                λ, kpc                                                    λ, k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1916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                          периодограмма Шустера                   ММЭ-спек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Обработка реальных данных о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73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галактических  мазе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2060640"/>
            <a:ext cx="7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601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максимальной энтропии для восстановления сигналов из данных о спектре ист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одограммный анализ и задача восста-новления спектров рядов данных с боль-шими пропу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задачи определения пара-метров спиральной волны плотности по пространственным скоростям галактических объе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ММЭ-обработки  радиальных скоросте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актических маз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862520" cy="6289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11280" y="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аблюдательные данные  (из литературных источ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287676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2857680" cy="2886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292720" y="3645000"/>
            <a:ext cx="2867040" cy="2886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32000" y="306864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kpc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ln(R/R0)R0, k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6453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kpc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n(R/R0)R0, k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2882880" cy="2878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340000" y="3789360"/>
                <a:ext cx="12970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17784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89000"/>
            <a:ext cx="70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ограмма Шустера                                  Данные и выделенная гарм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342900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МЭ-спектр                                                      Восстановленный р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ы следующие параметры спиральной волны плот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плитуда радиальных возму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8.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6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м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волны возмущ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λ =2.56±0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к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гол закрутки в двухрукавн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=5.8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64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аза Солнца в спиральной вол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χ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-170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р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4762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557360"/>
            <a:ext cx="8569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инцип деконволюции методом максимальной энтропии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всех возможных изображений, согласующихся с измеренными данными, то, которое имеет максимум энтропии, является наиболее вероятным прави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5080" y="62064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333399"/>
                </a:solidFill>
                <a:latin typeface="Arial"/>
              </a:rPr>
              <a:t>Bob S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7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етод максимальной энтроп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2421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искретная форма ММЭ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906560" y="2997360"/>
                <a:ext cx="5438880" cy="33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ρ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e</m:t>
                                        </m:r>
                                      </m:sup>
                                    </m:sSubSup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76320" y="1700280"/>
                <a:ext cx="7553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[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08720" y="1125360"/>
            <a:ext cx="3537000" cy="2536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08360" y="2565360"/>
            <a:ext cx="1797120" cy="1797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8000" y="105264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435640" y="433872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8000" y="3978360"/>
            <a:ext cx="3598920" cy="287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мер применения метода максимальной энтропии для             восстановления двумерных изображений в РСД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134136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Модель источ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11970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Диаграмма направ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365720"/>
            <a:ext cx="30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Заполнение плоскости  пр.част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458136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Грязное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5877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Восстановленное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Линейная теория волн пл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492360" y="1700280"/>
                <a:ext cx="214812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χ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χ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68360" y="3500280"/>
                <a:ext cx="48974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29080" y="3286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29080" y="3286080"/>
            <a:ext cx="285840" cy="2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56000" y="4437000"/>
                <a:ext cx="44640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84328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1484280"/>
            <a:ext cx="34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205000"/>
            <a:ext cx="34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052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Lin &amp; Shu (1964), Burton &amp; Bania (197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1200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1200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5080" y="3500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4365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486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52760" y="1628640"/>
                <a:ext cx="2166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509920" y="3789360"/>
                <a:ext cx="4556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θ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47640" y="54936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242100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1773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12000" y="4005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79280" y="2060640"/>
                <a:ext cx="896472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j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Δ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πR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m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95280" y="47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Комплексный спектр комплексного ряда, составленного из радиальных и остаточных тангенциальных скоростей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22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ериодограмм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992400" y="4819680"/>
                <a:ext cx="1233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47920" y="115920"/>
                <a:ext cx="6940440" cy="33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Δ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m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π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403280" y="37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050920" y="4437000"/>
                <a:ext cx="626436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10:10:03Z</dcterms:created>
  <dc:creator>Anisa</dc:creator>
  <dc:description/>
  <dc:language>en-US</dc:language>
  <cp:lastModifiedBy>Anisa</cp:lastModifiedBy>
  <dcterms:modified xsi:type="dcterms:W3CDTF">2002-03-16T00:03:58Z</dcterms:modified>
  <cp:revision>175</cp:revision>
  <dc:subject/>
  <dc:title>Redetermining of the galactic spiral density wave parameters on the basis of spectral analysis of maser's radial velocities </dc:title>
</cp:coreProperties>
</file>